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8.png" ContentType="image/png"/>
  <Override PartName="/ppt/media/image8.jpeg" ContentType="image/jpeg"/>
  <Override PartName="/ppt/media/image27.jpeg" ContentType="image/jpeg"/>
  <Override PartName="/ppt/media/image10.png" ContentType="image/png"/>
  <Override PartName="/ppt/media/image13.png" ContentType="image/pn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4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EA8C5D8-9EF6-45C0-A3A0-2511E0553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8BE9098-6B63-4D45-961B-70A30CD98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2C2A8FC-A229-4A17-B4F5-9C9E56609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B91496-6FE9-4C53-9808-6342EE479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356DE32-D165-486A-B8D2-DA09AFA2A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AB9F0DC-E820-495F-BCB7-347241813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F66573-9875-44E7-BC69-D4518E2CB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6411D3-7BF0-4B73-9AF5-DB2A64606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2DC-47A1-4ED1-8491-EF43800B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673-AE59-45BB-A819-E0E75665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35D-6D66-49B5-9A34-9D71540B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027-E957-4C3F-AD1F-BEE5C049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B849-1CDA-4765-BF01-9B6EFB25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1CD3-0E24-4ADC-8AD7-35A2ABE3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24CE-E24C-43BF-BDFE-B3B3ED0D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96B9-A3E1-484A-A150-EC928652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9C05-DF74-4555-A3D8-6F6441A0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F915-4111-4435-8B8E-96360F9C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EECD-6005-4F9A-AF32-3F537E2D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208-89F4-4591-8F50-42165ADB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25D7-FD52-43B1-B259-659594EF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D176-565B-495A-AB9E-B8A5414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A0B2-C025-4D42-9BB7-4D2BC7E6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A15D-1224-4DBD-BED4-1099289D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56BA-7F4E-409E-9264-032406DF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ECD-8240-4CB5-8E21-53B7D3F0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681-04A5-4C97-AB16-178A7C04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651-149C-416B-ADE1-8751C129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782-0DFF-4D62-9A2C-AD44FA59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F59-77EA-48EB-BEF7-0251D261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EF2-9EDF-46BF-B4A1-6E936E65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99F-B52D-480F-B03C-E8F1802C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8AC2-6E6D-4997-ADA3-B04D6DC1F182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2184-D0F7-4CD5-B1D4-CA7E2A9BBC64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rade 6: Standards, Instruction, and Assessment Overview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90920" y="4184280"/>
            <a:ext cx="6324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6-weeks Grading Peri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ssion WIKI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ww.6th-socialstudies-2ndsixweeks.wikispaces.co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iculum Maps were created to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Address the content you are required to co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Address the recommendations given by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GungsuhChe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 grade teach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apture the big picture in the daunting task of world geography cover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Provide  unit and topical breakdowns of the cont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Provide student friendly learning targe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Address deficiencies found in the 566 page Curriculum Aud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iculum Map Featur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9" name="Content Placeholder 4" descr="1.PNG"/>
          <p:cNvPicPr/>
          <p:nvPr/>
        </p:nvPicPr>
        <p:blipFill>
          <a:blip r:embed="rId1"/>
          <a:stretch/>
        </p:blipFill>
        <p:spPr>
          <a:xfrm>
            <a:off x="380880" y="1428840"/>
            <a:ext cx="84582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earning Targe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Fewer Learning Targe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MOST topics have 3 or less learning targe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Learning Targets are what students need to know at the end of the topi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ts val="1998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For short topics, the learning target is a daily targe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ts val="1998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For longer topics, you will need to create supporting /daily  learning targets to help students reach the learning target for the topi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2" name="Picture 3" descr="C:\Users\sburns1\AppData\Local\Microsoft\Windows\Temporary Internet Files\Content.IE5\S9JQCI0V\MC900383560[1].wmf"/>
          <p:cNvPicPr/>
          <p:nvPr/>
        </p:nvPicPr>
        <p:blipFill>
          <a:blip r:embed="rId1"/>
          <a:stretch/>
        </p:blipFill>
        <p:spPr>
          <a:xfrm rot="21008400">
            <a:off x="6019920" y="1219320"/>
            <a:ext cx="1295280" cy="183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Users\sburns1\AppData\Local\Microsoft\Windows\Temporary Internet Files\Content.IE5\NTLGZ3YI\MC900382592[1].jpg"/>
          <p:cNvPicPr/>
          <p:nvPr/>
        </p:nvPicPr>
        <p:blipFill>
          <a:blip r:embed="rId2"/>
          <a:stretch/>
        </p:blipFill>
        <p:spPr>
          <a:xfrm>
            <a:off x="6095880" y="3657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ggested Resourc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Most of the suggested resources come from TCI programs, Discovery Education, and online websites.  ALL teachers have access to these resour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It is encouraged that you look at these resources as you are planning each unit/topi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Textbooks are resources ONLY.  Lessons should be created based on learning targets and standards NOT what chapter is next in the book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NSTRUC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ook-In-An-Hou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Book-in-an-Hour technique is a modification of jig-saw readings.  In this activity an entire novel can be read in as little as one hour.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0" name="Content Placeholder 4" descr="red-glass1.jpg"/>
          <p:cNvPicPr/>
          <p:nvPr/>
        </p:nvPicPr>
        <p:blipFill>
          <a:blip r:embed="rId1"/>
          <a:stretch/>
        </p:blipFill>
        <p:spPr>
          <a:xfrm>
            <a:off x="5238720" y="1305000"/>
            <a:ext cx="32432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cribed by Cyrus F. Smith, Jr. in 1979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ccording Smith (1979) and Childrey (1980) this method is beneficial for a number of reasons including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tivating students to read an entire bo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ing reluctant readers by limiting read aloud require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 assign chapters of varying sizes to students based on their reading abi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s students to be introduced to a variety of literature in a limited ti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es summary sk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560" y="1304640"/>
            <a:ext cx="77058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pportunity to incorporate some of the available historical fiction and non-fiction work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ay to bring in multiple perspectiv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ncourages literacy skills such as identifying main idea and detail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quires listening as well as reading skil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ncourages writing skil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t does not take three weeks to read a no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ddresses ELA Reading and Writing Standard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Select an appropriate no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urchase 2 copies of the novel (paperback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3: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ar the Book into sec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4: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ete an appropriate pre-reading activit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5: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stribute Book in an Hour form and provide time for students to read their sections and complete the for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6: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udents Report on their sections. Through the course of the presentation of the novel, students will write a one-sentence summary for each presented sec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7: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ve students complete an appropriate post-reading activ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8" name="Content Placeholder 3" descr="2.PNG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eography Quot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od created war so that Americans would learn geography.”     Mark Twai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 get to go to overseas places, like Canada.”  Britney Spear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"New York is an ugly city, a dirty city. Its climate is a scandal, its politics are used to frighten children, its traffic is madness, its competition is murderous. But there is one thing about it - once you have lived in New York and it has become your home, no place else is good enough."     Megan McCafferty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"Everywhere's been where it is ever since it was first put there. It's called geography."   Terry Pratchet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"It is wonderful to be here in the great state of Chicago."  Dan Quayl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ver the last 15 months, we’ve traveled to every corner of the United States. I’ve now been in 57 states? I think one left to go."  Barack Oba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0" name="Content Placeholder 3" descr="3.PNG"/>
          <p:cNvPicPr/>
          <p:nvPr/>
        </p:nvPicPr>
        <p:blipFill>
          <a:blip r:embed="rId1"/>
          <a:stretch/>
        </p:blipFill>
        <p:spPr>
          <a:xfrm>
            <a:off x="2057400" y="111240"/>
            <a:ext cx="52578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efore Reading Strateg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Quick Writ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 ask students to predict what the story is about based on the title of the story and the pictures on the front &amp; back cov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Word Splas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 choose 8 to 15 words from the story and students write a paragraph using the words in which they predict what the story is abou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nticipation Gui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3" name="Picture 3" descr="AG.PNG"/>
          <p:cNvPicPr/>
          <p:nvPr/>
        </p:nvPicPr>
        <p:blipFill>
          <a:blip r:embed="rId1"/>
          <a:stretch/>
        </p:blipFill>
        <p:spPr>
          <a:xfrm>
            <a:off x="1725480" y="3124080"/>
            <a:ext cx="7418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fter Reading Strateg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Reflectio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Students make connections to what they are reading and their lives or the content they have been study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Tableaux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connects with visual and kinesthetic intelligences.  It generally takes the form of a frozen scene or pose that captures a physical, psychological or emotional relationship.  It helps students visually translate a variety of themes and ideas from the tex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Primary Sources: Authenticate the novel by having students interact with primary sources based on the content of the boo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RAFT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Writing to one of the characters in the book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6" name="Picture 3" descr="RAFT.PNG"/>
          <p:cNvPicPr/>
          <p:nvPr/>
        </p:nvPicPr>
        <p:blipFill>
          <a:blip r:embed="rId1"/>
          <a:stretch/>
        </p:blipFill>
        <p:spPr>
          <a:xfrm>
            <a:off x="4038480" y="3659040"/>
            <a:ext cx="48006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can you find books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ional Council for Social Studies publishes “Notable Trade Books” annual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://www.socialstudies.org/resources/notab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laborate with your Library Media Speciali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CI Activ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Topic 7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 South Americ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Standard: SS-06-4.4.4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tudents will explain how individual and group perspectives impact the use of natural resources (e.g., urban development, recycling) in the present day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Learning Target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I can explain how individual and group perspectives of how to use natural resources influence the political, social, and economic development of countries in South Americ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TCI Lesso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 </a:t>
            </a: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World Cultures Alive!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Rainforest Conference in Latin Americ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951440" y="1295280"/>
            <a:ext cx="36129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ps Tell A Sto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1"/>
          <a:stretch/>
        </p:blipFill>
        <p:spPr>
          <a:xfrm>
            <a:off x="944640" y="1255680"/>
            <a:ext cx="78087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5" name="Content Placeholder 5" descr=""/>
          <p:cNvPicPr/>
          <p:nvPr/>
        </p:nvPicPr>
        <p:blipFill>
          <a:blip r:embed="rId1"/>
          <a:stretch/>
        </p:blipFill>
        <p:spPr>
          <a:xfrm>
            <a:off x="4968720" y="1285920"/>
            <a:ext cx="3851280" cy="491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990720" y="1103400"/>
            <a:ext cx="382428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8" name="Content Placeholder 3" descr=""/>
          <p:cNvPicPr/>
          <p:nvPr/>
        </p:nvPicPr>
        <p:blipFill>
          <a:blip r:embed="rId1"/>
          <a:stretch/>
        </p:blipFill>
        <p:spPr>
          <a:xfrm>
            <a:off x="4968720" y="1285920"/>
            <a:ext cx="3851280" cy="491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nisekoski.com.au/images/jap_map.jpg"/>
          <p:cNvPicPr/>
          <p:nvPr/>
        </p:nvPicPr>
        <p:blipFill>
          <a:blip r:embed="rId2"/>
          <a:stretch/>
        </p:blipFill>
        <p:spPr>
          <a:xfrm>
            <a:off x="595440" y="1371600"/>
            <a:ext cx="4260600" cy="480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1" name="Content Placeholder 3" descr=""/>
          <p:cNvPicPr/>
          <p:nvPr/>
        </p:nvPicPr>
        <p:blipFill>
          <a:blip r:embed="rId1"/>
          <a:stretch/>
        </p:blipFill>
        <p:spPr>
          <a:xfrm>
            <a:off x="4968720" y="1285920"/>
            <a:ext cx="3851280" cy="491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12952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ps Tell A Story – Canad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it 3, Topic 1: Overview of the United States and Canad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5" name="Picture 6" descr="Canada.PNG"/>
          <p:cNvPicPr/>
          <p:nvPr/>
        </p:nvPicPr>
        <p:blipFill>
          <a:blip r:embed="rId1"/>
          <a:stretch/>
        </p:blipFill>
        <p:spPr>
          <a:xfrm>
            <a:off x="2514600" y="1676520"/>
            <a:ext cx="6629400" cy="5181480"/>
          </a:xfrm>
          <a:prstGeom prst="rect">
            <a:avLst/>
          </a:prstGeom>
          <a:ln w="0">
            <a:noFill/>
          </a:ln>
        </p:spPr>
      </p:pic>
      <p:sp>
        <p:nvSpPr>
          <p:cNvPr id="166" name="Right Arrow 7"/>
          <p:cNvSpPr/>
          <p:nvPr/>
        </p:nvSpPr>
        <p:spPr>
          <a:xfrm>
            <a:off x="0" y="2590920"/>
            <a:ext cx="2514600" cy="32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0" y="3505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Standards/Learning Targets would this activity addr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cebreak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 a post-it note, write down some aspect of the geography of the America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t can be a landform, cultural element, aspect of government, etc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o not show anyone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ut the post-it on the back of another participa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You will be trying to guess what is on your back by asking YES/NO ques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5" name="Picture 2" descr="C:\Users\sburns1\AppData\Local\Microsoft\Windows\Temporary Internet Files\Content.IE5\NTLGZ3YI\MC900441312[1].png"/>
          <p:cNvPicPr/>
          <p:nvPr/>
        </p:nvPicPr>
        <p:blipFill>
          <a:blip r:embed="rId1"/>
          <a:stretch/>
        </p:blipFill>
        <p:spPr>
          <a:xfrm>
            <a:off x="5487840" y="2381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9" name="Picture 2" descr="http://www.worldatlas.com/webimage/countrys/namerica/canewmapna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1" name="Picture 2" descr="http://www.map-of-canada.org/canada-map-7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3" name="Picture 2" descr="http://www.map-of-canada.org/canada-relief-ma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5" name="Picture 2" descr="http://www.globalforestwatch.org/common/canada/map.1.jpg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7" name="Picture 4" descr="http://www.iti.gov.nt.ca/tourismparks/fmi/i/permafrost_map%5b1%5d.gif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9" name="Picture 2" descr="http://www12.statcan.ca/census-recensement/2006/as-sa/97-550/vignettes/img/map-2006-pop-density-canada-sz01-en.gif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1" name="Picture 2" descr="http://www.craigmarlatt.com/canada/images/images&amp;downloads/map_climate.jpg"/>
          <p:cNvPicPr/>
          <p:nvPr/>
        </p:nvPicPr>
        <p:blipFill>
          <a:blip r:embed="rId1"/>
          <a:stretch/>
        </p:blipFill>
        <p:spPr>
          <a:xfrm>
            <a:off x="0" y="0"/>
            <a:ext cx="902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3" name="Picture 2" descr="http://www.statcan.gc.ca/pub/16-002-x/2007001/map/Land-cover-map-of-Canada.gif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4386240" y="-8888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386240" y="-8888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6" descr="http://www.canadamapxl.com/images/canada-road-map.gif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velopment Pentagram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S-06-4.1.1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use a variety of geographic tools (maps, photographs, charts, graphs, databases, satellite images) to interpret patterns and locations on Earth’s surface in the present da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sual way to look at the development – specifically economic and social – of a country/reg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198440" indent="-514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KCAS 4.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198440" indent="-514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urriculum Map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2. Instruction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3. Assessmen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4. Collaboration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3 Levels of Develop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.  Underdeveloped (Third World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untries that share common characteristics such as widespread poverty, high birth rates/population growth, high infant mortality rate, low GNP and depend on other countries for surviv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.  Develop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country still trying to acquire the standard of living enjoyed by citizens in a developed country but still have underdeveloped characteristic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3.  Develope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country whose citizens enjoy high incomes, an abundance of food, comfortable housing, stable population, technology, medicine, et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5 Factors that influence a country’s level of develop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.  TFR (Total Fertility Rate – number of children a woman will have at current rates (2.1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.  IMR (Infant Mortality Rate) – number of infants &lt;1yr who will die per 1000 live birth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3.  %U – percent of people living in an urban environ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.  GNP/C – (Gross National Product per capita) – estimate of the total value of goods and services produced in an country in a given yea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er capita means divided by the populat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st common measure of the level of activity at a national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5.  LR (Literacy Rate) - % of adults who can read or wri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ata Set for North Americ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42920" y="1305000"/>
          <a:ext cx="7705800" cy="1863720"/>
        </p:xfrm>
        <a:graphic>
          <a:graphicData uri="http://schemas.openxmlformats.org/drawingml/2006/table">
            <a:tbl>
              <a:tblPr/>
              <a:tblGrid>
                <a:gridCol w="1284480"/>
                <a:gridCol w="1284120"/>
                <a:gridCol w="1284480"/>
                <a:gridCol w="1284120"/>
                <a:gridCol w="1284480"/>
                <a:gridCol w="128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M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%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DP/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nited St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$48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$40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$1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96" name="TextBox 4"/>
          <p:cNvSpPr/>
          <p:nvPr/>
        </p:nvSpPr>
        <p:spPr>
          <a:xfrm>
            <a:off x="1066680" y="37339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plotting data on grid, students will determine what level of development they think each country has achie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have a discussion as to the reasons why they are at this level of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8" name="Picture 4" descr="08-02-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can I find data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IA World Factboo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s://www.cia.gov/library/publications/the-world-factbook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1" name="Picture 3" descr="CIA.jpg"/>
          <p:cNvPicPr/>
          <p:nvPr/>
        </p:nvPicPr>
        <p:blipFill>
          <a:blip r:embed="rId1"/>
          <a:stretch/>
        </p:blipFill>
        <p:spPr>
          <a:xfrm>
            <a:off x="2971800" y="2362320"/>
            <a:ext cx="3129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ASSESSMEN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ocial Studies Proficiency Assessmen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wo benchmark assessments from the district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ne in October (tentatively set for 10/22-11/2)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ne in February (Tentatively 2/11-2/22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eachers are encouraged to use daily formative and summative assessments in classroom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ay or may not be using CASCADE, no decisions have been mad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ake-up and structure of test has not been determined at this point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t is still the principal’s decision on when and how to use the district assessments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6" name="Picture 2" descr="C:\Users\sburns1\AppData\Local\Microsoft\Windows\Temporary Internet Files\Content.IE5\G05KPL49\MC900442128[1].png"/>
          <p:cNvPicPr/>
          <p:nvPr/>
        </p:nvPicPr>
        <p:blipFill>
          <a:blip r:embed="rId1"/>
          <a:stretch/>
        </p:blipFill>
        <p:spPr>
          <a:xfrm>
            <a:off x="5459400" y="2352600"/>
            <a:ext cx="28004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rmative Assess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25 Quick Formative Assessments for a Differentiated Classroom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ISBN 978-0-545-08742-1 (Amazon, $14.27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4 Categories of Formative Assessmen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Summaries and Refle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Lists, Charts, and Graphic Organizer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Visual Representations of Informat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ollaborative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Formative assessments should vary in format and address a variety of learning styl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3-2-1 Summarizer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(Summaries &amp; Reflections)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At the end of a lesson, students recor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3 Facts they’ve learn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 questions they have or wonder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1 personal connection they can make to the inform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0" name="Content Placeholder 5" descr="3-2-1 Summarizer.PNG"/>
          <p:cNvPicPr/>
          <p:nvPr/>
        </p:nvPicPr>
        <p:blipFill>
          <a:blip r:embed="rId1"/>
          <a:stretch/>
        </p:blipFill>
        <p:spPr>
          <a:xfrm>
            <a:off x="2514600" y="1176480"/>
            <a:ext cx="4419720" cy="55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Noting What I’ve Learned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(Lists, Charts, and Graphic Organizer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Utilizes the best elements of Cornell note-taking strategy.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2" name="Content Placeholder 5" descr="Noting what I've learned.PNG"/>
          <p:cNvPicPr/>
          <p:nvPr/>
        </p:nvPicPr>
        <p:blipFill>
          <a:blip r:embed="rId1"/>
          <a:stretch/>
        </p:blipFill>
        <p:spPr>
          <a:xfrm>
            <a:off x="2666880" y="1371600"/>
            <a:ext cx="3981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Session Learning Targe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I can plan engaging lessons using KCAS 4.1 Social Studies Standards for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Schoolbook"/>
                <a:ea typeface="GungsuhChe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 grading period</a:t>
            </a:r>
            <a:r>
              <a:rPr b="0" lang="en-US" sz="3200" spc="-1" strike="noStrike">
                <a:solidFill>
                  <a:srgbClr val="000000"/>
                </a:solidFill>
                <a:latin typeface="GungsuhChe"/>
                <a:ea typeface="GungsuhCh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I can identify and develop formative and summative assessments to assess student learning in social studi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ungsuh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ungsuh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Photo Finish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(Visual Representations of Information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tudents create a series of snapshot images that capture the essence of a topi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4" name="Content Placeholder 3" descr="photo finish.PNG"/>
          <p:cNvPicPr/>
          <p:nvPr/>
        </p:nvPicPr>
        <p:blipFill>
          <a:blip r:embed="rId1"/>
          <a:stretch/>
        </p:blipFill>
        <p:spPr>
          <a:xfrm>
            <a:off x="1523880" y="1295280"/>
            <a:ext cx="62485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eadline News! Summary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(Collaborative Activitie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sks students to sum up the essence of a lesson by creating newspaper headlines and delivering a brief news summary as an innovative way to involve them in making meaning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6" name="Content Placeholder 3" descr="Headline News!.PNG"/>
          <p:cNvPicPr/>
          <p:nvPr/>
        </p:nvPicPr>
        <p:blipFill>
          <a:blip r:embed="rId1"/>
          <a:stretch/>
        </p:blipFill>
        <p:spPr>
          <a:xfrm>
            <a:off x="2438280" y="1144440"/>
            <a:ext cx="443232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STANDARD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CAS 4.1 Social Stud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8" name="Content Placeholder 3" descr="KY goals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CAS 4.1 Social Studie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0" name="Content Placeholder 5" descr="subdomains &amp; organizers.JPG"/>
          <p:cNvPicPr/>
          <p:nvPr/>
        </p:nvPicPr>
        <p:blipFill>
          <a:blip r:embed="rId1"/>
          <a:stretch/>
        </p:blipFill>
        <p:spPr>
          <a:xfrm>
            <a:off x="0" y="1487520"/>
            <a:ext cx="91440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iculum vs. Curriculum Map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State law requires teachers to teach all the standards outlined in KCAS 4.1 Program of Studies for their subject/grad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For social studies, standards are organized by “big ideas”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Government and Civic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ultures and Socie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Economic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Historical Perspectiv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7160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urriculum Ma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JCPS’ organization/articulation of KCAS 4.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It is strongly recommended that teachers use/follow the maps to ensure that all standards are addressed adequatel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MAPS ARE NOT BASED ON A PARTICULAR TEXTBOOK OR PROGRAM – IT IS BASED ON STANDAR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Text Box 1029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2:40:27Z</dcterms:created>
  <dc:creator>gilmore</dc:creator>
  <dc:description/>
  <dc:language>en-US</dc:language>
  <cp:lastModifiedBy>gilmore</cp:lastModifiedBy>
  <dcterms:modified xsi:type="dcterms:W3CDTF">2012-06-22T17:49:03Z</dcterms:modified>
  <cp:revision>50</cp:revision>
  <dc:subject/>
  <dc:title>Grade 6: Standards, Instruction, and Assessmen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